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AA5-4EE8-49BD-8215-145236E7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46C-9E4E-476A-80C6-3887F1C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C35-931D-4B13-B45B-CF800773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DA5-C8F9-46D0-BF67-03506995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5781-EE1C-40E9-A174-F69A151D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8E5-6825-4D24-B72D-A609C9E7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7171-3E11-4847-A725-8C08F16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BE0F-D255-476D-B50C-239A74A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41E-6976-4324-AE9B-7A71755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9B78-E4CD-4906-88A7-60319AE5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9908-8117-49C2-8190-FE879B14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1B9-2FB7-4C27-A410-FBC0D25F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C34-693B-4B86-9201-CBAF9E4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0FF6-D12F-4FFB-A9DD-150587A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022E-ADB6-481F-87AF-A141559C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4419-5C31-40B1-993C-316BAD0B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CF5E-817E-4AC0-B6B0-8E66A69A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18FF-6DAB-4BB7-AFFF-8DA28722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BFE9-D51A-4DA6-B068-94ACB5C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6F08-0801-42B9-9E70-93649630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50CE-DE1C-421C-A11C-84E4A29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CDFB-4F73-429F-83A0-598EE3D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2B2-F42E-4B6F-8971-A7867CE8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F501-0155-478C-893D-587BC74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1282-9553-4941-993B-D93D4F1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BC9A-1279-4901-AA6B-07B0D2A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B8F8-B9B2-4A0F-8355-F4D1FDC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86A4-8F61-4992-8ECE-2CD1BEE2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DC5C-6223-4B6A-BE65-B03B2549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3587-28EC-456D-A616-28BCCCAD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9AC55-DBE4-4821-83CC-9B32538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9FD9-FCE5-401C-A781-4443A8B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895D-7480-421C-8CCD-E0CB5224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B40-2B14-4059-AAA4-7D486E1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00CE2-A169-4759-B629-CD873045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D71A-4E31-43E2-BBBA-5B31DD49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7850-28B1-40BB-B9E3-B27C2B14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C509-C951-4F84-B322-00DDDB88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CF8E-BFD9-4580-9B93-C2CE6E6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C819-F600-47F9-A614-669024B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667D5-2833-4BA7-A89B-51EB5883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B893-7901-442D-A7BF-B1BB31D7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1488A-13E0-411C-A35A-DCEA96A7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4C3-E5C6-4FF7-ABB3-72B145F6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F71-D896-4639-A3AA-BC9E3B18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A0C-7934-4990-969A-F3B74DE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A94-8D8F-4B78-82F2-5918654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8B8-04EA-4EC4-9AA1-ECA69DB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D05-78FF-4311-B981-7ABA0AD8FF9E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701-4D6C-4FC9-8E00-65B9613A02E5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78A-C433-4C3E-9FD7-F95A776B7CCD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gy sarkán kerekítve levágott téglalap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erékszögű háromszög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Szabadkézi sokszög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Szabadkézi sokszög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1BAB-B8AE-4578-9BE7-9CDB38CEBE4A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015640" y="861480"/>
            <a:ext cx="70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NAME: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EPRESSZI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OTTO: SZIÓ-SZIÓ- DEPRESSZI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MBERS: 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Bayka István, Fűlőp Szilárd, Iozsa Ionu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ţ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452960" y="2717280"/>
            <a:ext cx="64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  <a:ea typeface="Calibri"/>
              </a:rPr>
              <a:t>The three pigs and the rhin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Szövegdoboz 5"/>
          <p:cNvSpPr/>
          <p:nvPr/>
        </p:nvSpPr>
        <p:spPr>
          <a:xfrm>
            <a:off x="1143000" y="53578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0" lang="hu-HU" sz="1800" spc="-1" strike="noStrike">
                <a:solidFill>
                  <a:srgbClr val="000000"/>
                </a:solidFill>
                <a:latin typeface="Constantia"/>
              </a:rPr>
              <a:t> 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zövegdoboz 1"/>
          <p:cNvSpPr/>
          <p:nvPr/>
        </p:nvSpPr>
        <p:spPr>
          <a:xfrm>
            <a:off x="220320" y="928800"/>
            <a:ext cx="8997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One day, not long ag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there were three wild pigs. They lived a happy lif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ci was small and smart, Pici wasn’t that small and was a thinker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icsi 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 tall and  </a:t>
            </a:r>
            <a:r>
              <a:rPr b="0" lang="ro-RO" sz="2000" spc="-1" strike="noStrike">
                <a:solidFill>
                  <a:srgbClr val="000000"/>
                </a:solidFill>
                <a:latin typeface="Trebuchet MS"/>
              </a:rPr>
              <a:t>quite heavy-headed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Kép 2" descr="funny-farm-animals-34.jpg"/>
          <p:cNvPicPr/>
          <p:nvPr/>
        </p:nvPicPr>
        <p:blipFill>
          <a:blip r:embed="rId1"/>
          <a:stretch/>
        </p:blipFill>
        <p:spPr>
          <a:xfrm>
            <a:off x="1714680" y="2071800"/>
            <a:ext cx="642924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zövegdoboz 1"/>
          <p:cNvSpPr/>
          <p:nvPr/>
        </p:nvSpPr>
        <p:spPr>
          <a:xfrm>
            <a:off x="347760" y="1285920"/>
            <a:ext cx="881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hree wild pigs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determin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to go to the T.D.I. The three pigs went 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ocean to swim until they reach the TDI. And they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swam and swa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y got 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the island and started to eat the cabbage from the fiel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Kép 2" descr="ist2_10249676-cabbage-field.jpg"/>
          <p:cNvPicPr/>
          <p:nvPr/>
        </p:nvPicPr>
        <p:blipFill>
          <a:blip r:embed="rId1"/>
          <a:stretch/>
        </p:blipFill>
        <p:spPr>
          <a:xfrm>
            <a:off x="2143080" y="2286000"/>
            <a:ext cx="5500800" cy="44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e field belonged to a strong and wild rhino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828520"/>
            <a:ext cx="2462400" cy="29574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e rhino </a:t>
            </a:r>
            <a:r>
              <a:rPr b="1" lang="en-US" sz="2000" spc="-1" strike="noStrike">
                <a:solidFill>
                  <a:srgbClr val="c00000"/>
                </a:solidFill>
                <a:latin typeface="Trebuchet MS"/>
              </a:rPr>
              <a:t>happened to pass b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nd decided to eat the three wild pigs. The three pigs </a:t>
            </a:r>
            <a:r>
              <a:rPr b="1" lang="en-US" sz="2000" spc="-1" strike="noStrike">
                <a:solidFill>
                  <a:srgbClr val="c00000"/>
                </a:solidFill>
                <a:latin typeface="Trebuchet MS"/>
              </a:rPr>
              <a:t>were frightened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. Still they faced the danger and defended themselv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Kép 7" descr="6.jpg"/>
          <p:cNvPicPr/>
          <p:nvPr/>
        </p:nvPicPr>
        <p:blipFill>
          <a:blip r:embed="rId1"/>
          <a:stretch/>
        </p:blipFill>
        <p:spPr>
          <a:xfrm>
            <a:off x="3071880" y="928800"/>
            <a:ext cx="597204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08360" y="860760"/>
            <a:ext cx="854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In the middle of the fight the rhino slipped and drowned in the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rebuchet MS"/>
                <a:ea typeface="Calibri"/>
              </a:rPr>
              <a:t>Things were not so bad as they seem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The three pigs survived this adventure.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  <a:ea typeface="Calibri"/>
              </a:rPr>
              <a:t>The horror was ov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Kép 6" descr="australiagreat.ocean.road186"/>
          <p:cNvPicPr/>
          <p:nvPr/>
        </p:nvPicPr>
        <p:blipFill>
          <a:blip r:embed="rId1"/>
          <a:stretch/>
        </p:blipFill>
        <p:spPr>
          <a:xfrm>
            <a:off x="1071720" y="1928880"/>
            <a:ext cx="7092720" cy="471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Kép 1" descr="P101035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8" name="Kép 2" descr="P1010340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9" name="Szövegdoboz 3"/>
          <p:cNvSpPr/>
          <p:nvPr/>
        </p:nvSpPr>
        <p:spPr>
          <a:xfrm>
            <a:off x="793440" y="49291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Cím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4071600"/>
            <a:ext cx="7854840" cy="909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c000"/>
                </a:solidFill>
                <a:latin typeface="Trebuchet MS"/>
              </a:rPr>
              <a:t>HAVE  A NICE DAY</a:t>
            </a: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9:41:34Z</dcterms:created>
  <dc:creator>abc</dc:creator>
  <dc:description/>
  <dc:language>en-US</dc:language>
  <cp:lastModifiedBy>abc</cp:lastModifiedBy>
  <dcterms:modified xsi:type="dcterms:W3CDTF">2010-02-23T20:23:30Z</dcterms:modified>
  <cp:revision>5</cp:revision>
  <dc:subject/>
  <dc:title>1. dia</dc:title>
</cp:coreProperties>
</file>